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3D7-8377-48D8-9066-8B9B1BC2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5E1-567C-46FE-BD18-01FED0DE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5A8-9E0D-406F-82C4-F5AEA3E0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9CA-C704-4223-96E9-609A4330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1DB0-8816-4C1E-BCA5-E874BA6E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2984-87DB-4AD5-BE22-C8CCFABF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625C-097D-4BCF-885A-31025D57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B52A-40B5-4F46-A9C4-3C1183C1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4380-C800-4A7B-AEAA-E72EEB21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385E-952B-4A6D-84E5-D936E066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BE62-AA16-4017-A7D2-60B1A362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838-9E95-43AF-B40A-7607F2AE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46B2-FD7B-4F2B-9606-50D446FC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4871-0329-4662-B8AB-3428EFFF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573A-D640-4EC6-A531-08E4B978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59CF-E708-451C-BEF2-086FC462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D42B-1041-4BF8-A03F-970B15FF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5FB-D7A5-48BE-8D76-1656D617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4BB-27F9-467A-B786-56D48BBD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196-7CFE-412A-943B-9C214437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131-C604-4E0F-BB64-F4A26546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9E6-8B9C-4DA4-8C63-14CB8ED7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683-3E9F-46CB-92D3-57DE68CF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67A-E699-4061-970F-09D1F584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807160"/>
            <a:ext cx="10078920" cy="175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34108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4056120"/>
            <a:ext cx="906768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48000"/>
          </a:bodyPr>
          <a:p>
            <a:pPr marL="16452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59E2C-A0F6-47E8-9F79-C8B83532C37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0077480" cy="941400"/>
          </a:xfrm>
          <a:prstGeom prst="rect">
            <a:avLst/>
          </a:prstGeom>
          <a:gradFill rotWithShape="0">
            <a:gsLst>
              <a:gs pos="0">
                <a:srgbClr val="dff2fc"/>
              </a:gs>
              <a:gs pos="100000">
                <a:srgbClr val="009b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20040"/>
            <a:ext cx="10077480" cy="941400"/>
          </a:xfrm>
          <a:prstGeom prst="rect">
            <a:avLst/>
          </a:prstGeom>
          <a:gradFill rotWithShape="0">
            <a:gsLst>
              <a:gs pos="0">
                <a:srgbClr val="dff2fc"/>
              </a:gs>
              <a:gs pos="100000">
                <a:srgbClr val="009b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858AD-FEE9-446D-BD03-A00619D08A6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280" y="1788840"/>
            <a:ext cx="90709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006699"/>
                </a:solidFill>
                <a:latin typeface="Arial Black"/>
              </a:rPr>
              <a:t>V</a:t>
            </a:r>
            <a:r>
              <a:rPr b="0" lang="pl-PL" sz="6000" spc="-1" strike="noStrike">
                <a:solidFill>
                  <a:srgbClr val="c9211e"/>
                </a:solidFill>
                <a:latin typeface="Arial Black"/>
              </a:rPr>
              <a:t>I</a:t>
            </a:r>
            <a:r>
              <a:rPr b="0" lang="pl-PL" sz="6000" spc="-1" strike="noStrike">
                <a:solidFill>
                  <a:srgbClr val="55308d"/>
                </a:solidFill>
                <a:latin typeface="Arial Black"/>
              </a:rPr>
              <a:t>V</a:t>
            </a:r>
            <a:r>
              <a:rPr b="0" lang="pl-PL" sz="6000" spc="-1" strike="noStrike">
                <a:solidFill>
                  <a:srgbClr val="666666"/>
                </a:solidFill>
                <a:latin typeface="Arial Black"/>
              </a:rPr>
              <a:t>E</a:t>
            </a:r>
            <a:r>
              <a:rPr b="0" lang="pl-PL" sz="6000" spc="-1" strike="noStrike">
                <a:solidFill>
                  <a:srgbClr val="168253"/>
                </a:solidFill>
                <a:latin typeface="Arial Black"/>
              </a:rPr>
              <a:t>N</a:t>
            </a:r>
            <a:r>
              <a:rPr b="0" lang="pl-PL" sz="6000" spc="-1" strike="noStrike">
                <a:solidFill>
                  <a:srgbClr val="ff8000"/>
                </a:solidFill>
                <a:latin typeface="Arial Black"/>
              </a:rPr>
              <a:t>T</a:t>
            </a:r>
            <a:r>
              <a:rPr b="0" lang="pl-PL" sz="6000" spc="-1" strike="noStrike">
                <a:solidFill>
                  <a:srgbClr val="168253"/>
                </a:solidFill>
                <a:latin typeface="Arial Black"/>
              </a:rPr>
              <a:t> </a:t>
            </a:r>
            <a:br>
              <a:rPr sz="6000"/>
            </a:br>
            <a:r>
              <a:rPr b="0" lang="pl-PL" sz="6000" spc="-1" strike="noStrike">
                <a:solidFill>
                  <a:srgbClr val="c9211e"/>
                </a:solidFill>
                <a:latin typeface="Arial Black"/>
              </a:rPr>
              <a:t>L</a:t>
            </a:r>
            <a:r>
              <a:rPr b="0" lang="pl-PL" sz="6000" spc="-1" strike="noStrike">
                <a:solidFill>
                  <a:srgbClr val="ff8000"/>
                </a:solidFill>
                <a:latin typeface="Arial Black"/>
              </a:rPr>
              <a:t>E</a:t>
            </a:r>
            <a:r>
              <a:rPr b="0" lang="pl-PL" sz="6000" spc="-1" strike="noStrike">
                <a:solidFill>
                  <a:srgbClr val="2a6099"/>
                </a:solidFill>
                <a:latin typeface="Arial Black"/>
              </a:rPr>
              <a:t>S </a:t>
            </a:r>
            <a:r>
              <a:rPr b="0" lang="pl-PL" sz="6000" spc="-1" strike="noStrike">
                <a:solidFill>
                  <a:srgbClr val="395511"/>
                </a:solidFill>
                <a:latin typeface="Arial Black"/>
              </a:rPr>
              <a:t>C</a:t>
            </a:r>
            <a:r>
              <a:rPr b="0" lang="pl-PL" sz="6000" spc="-1" strike="noStrike">
                <a:solidFill>
                  <a:srgbClr val="000000"/>
                </a:solidFill>
                <a:latin typeface="Arial Black"/>
              </a:rPr>
              <a:t>O</a:t>
            </a:r>
            <a:r>
              <a:rPr b="0" lang="pl-PL" sz="6000" spc="-1" strike="noStrike">
                <a:solidFill>
                  <a:srgbClr val="ff3838"/>
                </a:solidFill>
                <a:latin typeface="Arial Black"/>
              </a:rPr>
              <a:t>U</a:t>
            </a:r>
            <a:r>
              <a:rPr b="0" lang="pl-PL" sz="6000" spc="-1" strike="noStrike">
                <a:solidFill>
                  <a:srgbClr val="55308d"/>
                </a:solidFill>
                <a:latin typeface="Arial Black"/>
              </a:rPr>
              <a:t>L</a:t>
            </a:r>
            <a:r>
              <a:rPr b="0" lang="pl-PL" sz="6000" spc="-1" strike="noStrike">
                <a:solidFill>
                  <a:srgbClr val="ec9ba4"/>
                </a:solidFill>
                <a:latin typeface="Arial Black"/>
              </a:rPr>
              <a:t>E</a:t>
            </a:r>
            <a:r>
              <a:rPr b="0" lang="pl-PL" sz="6000" spc="-1" strike="noStrike">
                <a:solidFill>
                  <a:srgbClr val="706e0c"/>
                </a:solidFill>
                <a:latin typeface="Arial Black"/>
              </a:rPr>
              <a:t>U</a:t>
            </a:r>
            <a:r>
              <a:rPr b="0" lang="pl-PL" sz="6000" spc="-1" strike="noStrike">
                <a:solidFill>
                  <a:srgbClr val="2a6099"/>
                </a:solidFill>
                <a:latin typeface="Arial Black"/>
              </a:rPr>
              <a:t>R</a:t>
            </a:r>
            <a:r>
              <a:rPr b="0" lang="pl-PL" sz="6000" spc="-1" strike="noStrike">
                <a:solidFill>
                  <a:srgbClr val="c9211e"/>
                </a:solidFill>
                <a:latin typeface="Arial Black"/>
              </a:rPr>
              <a:t>S !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35200" y="1368360"/>
            <a:ext cx="4708440" cy="45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32040" y="2533680"/>
            <a:ext cx="417996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79640" y="2087640"/>
            <a:ext cx="4997520" cy="36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92440" y="2139840"/>
            <a:ext cx="4794120" cy="34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600360" y="2232000"/>
            <a:ext cx="31766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000" y="7920"/>
            <a:ext cx="9791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c9211e"/>
                </a:solidFill>
                <a:latin typeface="Arial Black"/>
              </a:rPr>
              <a:t>DE QUELLES COULEURS SONT LES MACARON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79640" y="1012680"/>
            <a:ext cx="4135680" cy="56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0720" y="2090880"/>
            <a:ext cx="8352000" cy="36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2a6099"/>
                </a:solidFill>
                <a:latin typeface="Arial Black"/>
              </a:rPr>
              <a:t>DE QUELLES COULEURS SONT CES OBJET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2a6099"/>
                </a:solidFill>
                <a:latin typeface="Arial Black"/>
              </a:rPr>
              <a:t>EXEMP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800" spc="-1" strike="noStrike">
                <a:solidFill>
                  <a:srgbClr val="168253"/>
                </a:solidFill>
                <a:latin typeface="Arial Black"/>
              </a:rPr>
              <a:t>Les ciseaux sont verts.  </a:t>
            </a:r>
            <a:r>
              <a:rPr b="0" lang="pl-PL" sz="2800" spc="-1" strike="noStrike">
                <a:solidFill>
                  <a:srgbClr val="168253"/>
                </a:solidFill>
                <a:latin typeface="Arial Black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91280" y="3887640"/>
            <a:ext cx="13348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952720" y="1655640"/>
            <a:ext cx="4270320" cy="42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5640" y="1768320"/>
            <a:ext cx="4213080" cy="39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11640" y="1763640"/>
            <a:ext cx="365760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08360" y="1655640"/>
            <a:ext cx="45957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87680" y="1584360"/>
            <a:ext cx="4684680" cy="45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311640" y="2408400"/>
            <a:ext cx="3816360" cy="319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2T13:20:48Z</dcterms:created>
  <dc:creator/>
  <dc:description/>
  <dc:language>en-US</dc:language>
  <cp:lastModifiedBy/>
  <dcterms:modified xsi:type="dcterms:W3CDTF">2020-12-02T18:02:28Z</dcterms:modified>
  <cp:revision>3</cp:revision>
  <dc:subject/>
  <dc:title>Blue Curve</dc:title>
</cp:coreProperties>
</file>